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996A-D249-40C2-9CD8-CE1C1E41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15E0-949E-4575-88C5-D8A5C7A7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A4A9-58D9-44C1-BAA1-4F20A520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CAE4-240C-4C66-9F2C-CE8061A6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EBC0-ADB1-4B3D-A70F-813C47A8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4013-E70A-4EE2-9D93-87221B92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D24E-92FE-434B-BFD0-4099EA88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B805-445E-4754-9ADD-F95FB3DC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5EB8-0253-429D-84EF-FF1B6512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029B-DF87-4B13-9DB7-85FCC2D7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92FB-2F0E-4D9B-B892-EC716770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A4C0-C6C9-483C-B8AC-65A87BE7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7F2F-AD13-481C-9389-8B5E6848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582B-228E-4D72-A317-C437DA9E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D184-9DA0-4ACC-93D7-94F8736B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F124-1915-464C-B624-CF2708A5E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52A4-2FC2-47FC-9259-1ED401427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A938-089C-46D8-B942-0A9792D5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BF57-0A96-4AC5-B558-9C734E7F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5A73-2D9B-43D7-9AA1-3B1ECA0E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EB95-0870-48AF-9C52-3DE6E9BC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9833-5B32-49F1-BB64-2584A97C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58E9-1C84-453A-BEB3-8029C7D8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21E7-0A23-4030-91B9-CB78E8BE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822F-6497-432A-8EF4-D8AD2B1EF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1A48-ED42-451E-B1DE-B0D3B414D4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se-Control Stud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deep Deshmuk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fess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 Sushila Nayar School of Public Heal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GIMS, Sewa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ROGRESSION OF STUDY DESIGN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MMUNITY RESEAR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logical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-Sectional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-Control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hort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ized Community T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-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ipid - Atherosclerosis Assoc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Lipid - Atherosclerosis Associ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nalysis of 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Death Rates from CAD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according to 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per capita fat consumption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in 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20 countrie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Hypothesis of L-A association.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S Studies: Framingham and Evans County Heart Studies (Dawber et al 1971, Cassel 1971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ase-Control Studies confirmed Associa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hort Studies (Truett et al 1967, Tyroler et al 1971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mmunity Based Controlled Trials of Lipid Reduction (Lipid Research Clinics Program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usation/causal assoc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eria to be fulfill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ength of association &amp; effect of ces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ity of assoc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stency of assoc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logical plau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herence of assoc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The setting of case-control research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Clinic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sms of Disease Caus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Commun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 Health Impact of Expo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cision to conduct case-control resear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aracteristics of the exposure and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urrent state of knowledge: Relation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mmediate goals of the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earch set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ource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earch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OC use associated with MI in wom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current IUD use associated with PI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OC use associated with the risk of breast canc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ge at first coitus associated with cervical canc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legal abortion associated with placenta previa in a later pregnanc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O ARE CAS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ith a Specific Outcom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ce of Disease / Syndrom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ications / progression of Disease (Severe dehydration cris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ath (Neonatal mortal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um cholesterol / Birth we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ayed Immun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rly Initiation of Cigarette Smo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verse Reactions of Drugs / Vaccines (SID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havior (Juvenile Delinquenc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ug Resistance (MDR-T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ple as a case (Infertil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lection of cases (Definition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iagnostic Crite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sk of Disease Misclassif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inuous / Discrete Outcome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latively simple &amp; straightforward: Children with cleft palates (physical examin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metimes difficult: Hyperten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gnosis: Combination of methods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tionale / Log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eria Specif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rational versus Rig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 Definition (WHO, CDC,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 (growth references – NCHS, CDC, New W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lection of cases (definition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ligibility Criter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sion/Exclusion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-Co studies should be limited t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inciden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es (Sackett 1979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osures are presumably more recent and therefore more reliably recall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ively homogeneous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lusion of prevalent cases: Minimize the Selection Bias (Neyman Fallacy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: PID and IUD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me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who are not sexually ac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r who hav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ad a tubal lig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not likely to have recently used any contraceptive method including IU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se defin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748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ptual 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esity defined as body fat percentag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3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rational 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dy Mass Index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se definition: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 definition should avoid misclass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: Sinha et al (200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emia was defined as Hemoglobin &lt; 110 gm/L as measured by WHO Colour Sc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Colour Scale over-estimates the hemoglob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classified cases with mild an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, studying mild forms of cases, gives larger case group; but misclassifies cases as non-cases OR non-cases as case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 early diagnosis is generally imprec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se definition: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vere case definition may exclude people who have been cured or who died of disease before the condition was severe enough to be labelled as c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/consensus definitions if available, must be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heumatoid arthritis – Rome criteria, NY criteria, 1987 ARC crite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bolic Syndrome – ATP III, IDRF, and so 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agreement over definition may introduce variability in estimates of eff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se definition: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ssues of severity, diagnostic criteria and subjectivity of criteria all lead to potential problems of misclassification of c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searcher can choose between more restrictive and inclusive defin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in terms of sensitivity and specificity of definition and its effect on validity, sample size, precision and 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enner and Savitz (1990) reported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trictive definition (less sensitive) leads to lack of precision and power by reducing sample s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oad criteria (less specificity) produce misclassification leading to biased measure of eff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, weigh validity - specificity over sensitivity (Restrictive definition over inclusive defini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ources of cases (Research Setting)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pitals (Multi-Centric Stud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strial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ication of cases: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oal i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sure that all true cases have an equal probability of entering the study and that no false cases e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Conceptual definition of H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tors affecting decision to test/access the test and Sn &amp; Sp of test will decide who eventually becomes a case under operational defi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ion bias 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on b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equal chance of getting into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rkson’s bi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ble rate of hospitalization affecting case se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yman fall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ident case Vs prevalent c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ction b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closer medical attention, detection of endometrial cancer was more in a group using estro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lection of Contr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ntrols should come from the population at risk of the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 can not be controls for a gynecological cond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trols should be “eligible for the exposur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ntrols should have same exposure rate as that of the population from where the cases are dra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chlder’s four principles for selection of contro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udy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rce of case and the control should be the s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onfou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able accu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ilar misclassification errors in cases &amp; contr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otential of recall bias in cases &amp;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Contr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pital or clinic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d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s with similar dis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 or case-nominated (friend/neighbor)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 contr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spital contr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ly available hence commonly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 reasons to use hospital controls 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elect controls whose referral pattern is similar to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obtain similar quality of exa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conven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not be representative of the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finition…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se-control study is 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alytic epidemiologic resear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sign in which the study populatio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sists of grou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o either ha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(cases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do not have a particular health problem or outcom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(controls)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vestigator look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ack in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measu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posur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the study subjects. The exposure is the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ar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mong cases and controls to determine if the exposu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uld accou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the health condition of the ca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ad contr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ght use dead controls for dead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some situations, this might lead to use of surrogate inform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 is the dead control is not representative of the living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cLaughlin compared dead controls with living controls and noticed that the dead controls smoked more cigarettes and consumed more alcohol than living contr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priateness depends on the exposure being stud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rols with similar dise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s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minimize the recall b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minimize the interviewer b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amine the specificity of an exposure for a particular type of can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“practical” but unspecified r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 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er or case-nominated (friend/neighbor) contr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ighborhood controls is used in two way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refer to community or population contr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refer to controls selected from finite number of close neighb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arch starts from house of the case and door-to-door search conducted for eligible controls in a standardized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iend or neighbor control is a surrogate for matching on age, SES, education, 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quick way to find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as is introduced if determinants of friendship are associated with disease or expo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iends share many risk behavi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pulation contr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domly drawn from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ly representative of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 way of selecting contr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ally, very difficult to carry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base 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ere to select controls fro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 the pros and c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ze the situation for bias being introdu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possibl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different sources of controls and compare with each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the inferences dra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tio of control to cas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stical consid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number of subjects available in one group (cases) is limited, an increase in the other group increases the study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 in power is till the ratio of 4: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after, the gain is not substantial but cost incr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study of power with equal allocation is as high as 0.9 or as low as 0.1, additional fails to increase the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idity of in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when there is no statistical need, more than one control may be recruited per c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rolling two or more types of controls is a way of checking for biases introduced by choice of control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measure of effect is similar when comparing cases with each control grou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ably – no biases (no sure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different measure of effect, then the bias is there and the researcher can understand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tio of control to cas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09480" y="60948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TCHING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pose: To adjust - effects of relevant confoun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ching in Design - Accounted in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isconcept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goal is to make the case and control groups similar in all respects, except for disease stat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ptimal Matching Sche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volves only thos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ariabl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impro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tatistical efficienc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liminate bi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rom the effect of inter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33520" y="304920"/>
            <a:ext cx="7924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TCHING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hich variables are appropriate for match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factors from prior work may be identified for mat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ching by interviewer or hospital may be used to balance out the effects of interviewer and observer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best to limit matching to basic descriptors (age, race, sex,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modifiable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few matching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609480"/>
            <a:ext cx="792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TCHING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verzealous matching may have adverse effect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tching on a strong correlate of the exposure, which is not an independent risk factor for the outcome (overmatching) may lead to an underestimate of O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tching may lead to a false sense of security that a particular variable is adequately controll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YNONYM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-Re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-Compe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ple siz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_info 6.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ement of Expos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nai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rsion tables/algorith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ement of expos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na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compreh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retriev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e formulation and recor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of exposure reports may be influenced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of respon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tion of questionna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lience of expo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y in which information is retrie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ys in which responses are formulated and recor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ement of expos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traction of data from rec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control measures are impor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eful design and testing of abstraction 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and supervision of abstr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ori definition of te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ations of rules for handling conflicting or missing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ement of expos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rsion tables/algorith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obtain more specific exposure measure from questionnaire or rec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in use now-a-days for dietary and occupational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a case-control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ssoci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tests of signific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ion of Odds ratio and its confidence 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ributable risk esti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sts of signific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matched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ched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nary exposure without covari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68360" y="1484280"/>
          <a:ext cx="8291520" cy="1886040"/>
        </p:xfrm>
        <a:graphic>
          <a:graphicData uri="http://schemas.openxmlformats.org/drawingml/2006/table">
            <a:tbl>
              <a:tblPr/>
              <a:tblGrid>
                <a:gridCol w="2073240"/>
                <a:gridCol w="2073240"/>
                <a:gridCol w="2071800"/>
                <a:gridCol w="2073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169e1"/>
                          </a:solidFill>
                          <a:latin typeface="Arial"/>
                        </a:rPr>
                        <a:t>Exposure to fum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6f0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169e1"/>
                          </a:solidFill>
                          <a:latin typeface="Arial"/>
                        </a:rPr>
                        <a:t>Headache pre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6f0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169e1"/>
                          </a:solidFill>
                          <a:latin typeface="Arial"/>
                        </a:rPr>
                        <a:t>Headache ab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6f0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169e1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6f0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 pre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=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=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b= 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 ab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=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=8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+d= 9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c=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+d=9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=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3500280"/>
            <a:ext cx="822960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= ad/b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(OR) = 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qrt (1/a+1/b+1/c+1/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 = OR exp (± Z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-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/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qrt (1/a+1/b+1/c+1/d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ational / Non-experimen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casionally Explora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natory (Analytic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 to 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Exposure &amp; Disease have already occur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Comparison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nary exposure and categorical covari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ified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OR for each str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tel-Haenszel summary odds ratio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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= ------------------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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istic reg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nary exposure with continuous covari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 height as covariate in a study where exposure is diabetes and outcome is 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stratified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ge number of str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of these strata will have zero frequ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 limited number of categories – loss of some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istic regression – misclassifying the functional form of relationship between covariate and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inuous exposure without covari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de the exposure variable in small number of categ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quint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istic reg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for assessing dose-respon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inuous exposure with covari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egorize the expo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H estim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ression techni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ched da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57200" y="1484280"/>
          <a:ext cx="8218440" cy="1897200"/>
        </p:xfrm>
        <a:graphic>
          <a:graphicData uri="http://schemas.openxmlformats.org/drawingml/2006/table">
            <a:tbl>
              <a:tblPr/>
              <a:tblGrid>
                <a:gridCol w="2054160"/>
                <a:gridCol w="2055960"/>
                <a:gridCol w="2054160"/>
                <a:gridCol w="20541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169e1"/>
                          </a:solidFill>
                          <a:latin typeface="Arial"/>
                        </a:rPr>
                        <a:t>Exposure to fum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6f0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169e1"/>
                          </a:solidFill>
                          <a:latin typeface="Arial"/>
                        </a:rPr>
                        <a:t>Headache pre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6f0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169e1"/>
                          </a:solidFill>
                          <a:latin typeface="Arial"/>
                        </a:rPr>
                        <a:t>Headache ab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6f0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169e1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6f0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 pre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 ab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B+C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3573360"/>
            <a:ext cx="822960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,B,C,D are number of pa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= B/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(OR) = e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qrt (1/B+1/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 = OR exp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(± Z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-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/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qrt (1/B+1/C)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ociation by McNemar’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(B-C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(B+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ression = Conditional reg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380880"/>
            <a:ext cx="792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PRE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1430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=1, OR&lt;1, OR&gt;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1676520"/>
            <a:ext cx="7848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Ran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pre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0 - 0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 Benef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4 - 0.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Benef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6 - 0.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k Benef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9 - 1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E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2 - 1.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k Haz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7 - 2.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Haz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 2.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 Haza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2480" y="1600200"/>
            <a:ext cx="7848720" cy="426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218916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96880" y="270828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8960" y="322884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6360" y="374796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6880" y="424656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4280" y="476568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2200" y="529272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952880" y="1600200"/>
            <a:ext cx="0" cy="426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dentification of confounding vari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stically testing for association of potential confounder with disease and with expo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“crude OR” differs from “adjusted OR” by a specified percentage points (15 or less), then the variable is regarded as confou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ttributable risk esti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known 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iologic f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ss f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pulation attributable risk perc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s an estimate of proportion of cases that are related to a given exp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fraction of disease in population that might be avoided by eliminating the exposure to an etiologic ag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takes number of exposed individuals in the population into 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s important information for public health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609480"/>
            <a:ext cx="8153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RP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1676520"/>
            <a:ext cx="807696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P = (OR-1)/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portion of total disease risk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posed pers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ich may be attributed to their expo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&gt; 1, ARP Range: 0 - 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= 1, ARP =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OR is very large, much of the total disease risk in exposed persons may result from that exposu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33520" y="609480"/>
            <a:ext cx="8153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P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1600200"/>
            <a:ext cx="80769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ts val="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e and MacMahon (1971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P = [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OR-1)] / [1+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OR-1)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ylor (1977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P = 1-[b(c+d) /d(a+b)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sponds to the proportion of disease risk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ll pers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ich may be attributed to the exposure under investig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y case-control design for study of rare diseas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ome rare disease say some cancer (leukemi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2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ude Annual Incidence = 3.4/100000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&lt; 15 yea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hort Study: A year of observation on a million children to identify 34 c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e of 34 cases: Sub-divided in 2 or more exposure catego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bout conducting case-control desig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609480"/>
            <a:ext cx="8001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1523880"/>
            <a:ext cx="82296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auterine Irradiation &amp; Childhood Lukae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= 1.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P = (1.48 -1) / 1.48 = 0.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third of lukaemia in the irradiated children may be attributed in part to prenatal irradi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P=1-[70 (45+155) / 155(30+70)]=1-0.90= 0.1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% of all childhood lukaemia may be attributed in part to intrauterine irradi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…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826920" y="1844640"/>
          <a:ext cx="7283520" cy="3714840"/>
        </p:xfrm>
        <a:graphic>
          <a:graphicData uri="http://schemas.openxmlformats.org/drawingml/2006/table">
            <a:tbl>
              <a:tblPr/>
              <a:tblGrid>
                <a:gridCol w="1820880"/>
                <a:gridCol w="1820880"/>
                <a:gridCol w="1820880"/>
                <a:gridCol w="1820880"/>
              </a:tblGrid>
              <a:tr h="928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H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9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F di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F di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9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0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7812000" y="6308640"/>
          <a:ext cx="874800" cy="500040"/>
        </p:xfrm>
        <a:graphic>
          <a:graphicData uri="http://schemas.openxmlformats.org/drawingml/2006/table">
            <a:tbl>
              <a:tblPr/>
              <a:tblGrid>
                <a:gridCol w="352440"/>
                <a:gridCol w="216000"/>
                <a:gridCol w="306360"/>
              </a:tblGrid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.2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4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1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ratified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57200" y="1874880"/>
          <a:ext cx="8362800" cy="3930480"/>
        </p:xfrm>
        <a:graphic>
          <a:graphicData uri="http://schemas.openxmlformats.org/drawingml/2006/table">
            <a:tbl>
              <a:tblPr/>
              <a:tblGrid>
                <a:gridCol w="1673280"/>
                <a:gridCol w="1673280"/>
                <a:gridCol w="1670040"/>
                <a:gridCol w="1673280"/>
                <a:gridCol w="1672920"/>
              </a:tblGrid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H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F di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F di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em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F di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F di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7667640" y="5945040"/>
          <a:ext cx="906480" cy="912960"/>
        </p:xfrm>
        <a:graphic>
          <a:graphicData uri="http://schemas.openxmlformats.org/drawingml/2006/table">
            <a:tbl>
              <a:tblPr/>
              <a:tblGrid>
                <a:gridCol w="453960"/>
                <a:gridCol w="452520"/>
              </a:tblGrid>
              <a:tr h="185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48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03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04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.00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.28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.39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92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ercise on matched data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ercise using epi_inf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class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differ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ou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80880" y="685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SELECTION BIA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1295280"/>
            <a:ext cx="8001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rkson’s Parad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yman Fall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ve Refer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ction B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ngth of Hospital Stay B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vival B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57200" y="6858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RKSON’S PARAD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1295280"/>
            <a:ext cx="8001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rkson (194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ospital samples may systematically differ from general populations because of factors which influence the likelihood of hospitaliz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ospital samples may exhibit spurious associations between two variables, even though these variables are independently distributed in the general popul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57200" y="6858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RKSON’S PARAD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1295280"/>
            <a:ext cx="8001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oberts &amp; Co-workers(197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iratory and bone dis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(General Population): 1.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(Hospital Sample): 4.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orted medication-diseases associ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xative use and arthritic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(General Population): 1.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(Hospital Sample): 5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57200" y="6858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RKSON’S PARAD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1295280"/>
            <a:ext cx="8001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alter(1980): Minim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xposure is not a direct cause of hospitaliz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se and control populations are mutually exclus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80880" y="68580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YMAN FALLAC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1295280"/>
            <a:ext cx="8153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yman (195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alent Cases: Distorted E-D Associ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exposure is related to Disease Progn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Sex &amp; Colorectal Can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&gt;I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Devesa &amp; Silverman 197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onger (Koch et al 198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e of Prevalent Cases : Prop. Of 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ization: Incident cases (Schesselman 198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se-Control Studies for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iseases having long induction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ous: Long induction period between the exposure and clinical onset of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hort Study: Waiting years for accrual of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-Control Study: Compress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-Control Studies: Chronic Diseases (Cancer / Cardiovascular Disea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09480" y="60948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LECTIVE REFER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1295280"/>
            <a:ext cx="78487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cases within the population are differentially reported to study hospit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tiary Care Hospital: Complicated/Severe D Which may differ etiologically from other ca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388620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N-RESPON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4572000"/>
            <a:ext cx="7924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enrolled subjects systematically differ from non-particip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e: Comparability of participants &amp; non-particip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533520" y="609480"/>
            <a:ext cx="792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TECTION BI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1295280"/>
            <a:ext cx="7772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f exposure influences the likelihood of clinical recognition of the diseas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x: Exogenous Oestrogen- Endometrial Canc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ts val="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-DA may be partially attributed to preferential detection of D in exposed wome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 -&gt; Dysfunctional Bleeding -&gt; Intra-abdominal Diagnostic Examination -&gt; Diagnosis of an Asymptomatic D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aCo Studies should attempt to evaluate the extent to which exposure brings an otherwise asymptomatic cases to clinical detec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33520" y="609480"/>
            <a:ext cx="792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NGTH OF HOSPITAL STAY B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295280"/>
            <a:ext cx="7772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cases are selected from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gistry of current hospital patie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then cases who have been hospitalized for the longest period of time have a higher probability of being selected than cases admitted for minor conditions or cases who d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cases may have other diseases and conditions that may be related to the disease or exposure under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533520" y="609480"/>
            <a:ext cx="792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RVIVAL BI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1295280"/>
            <a:ext cx="7772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only the survivors of the outcome are selected as cases and if survival is related to the exposure of 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533520" y="609480"/>
            <a:ext cx="792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ISCLASSIFICATION BI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3520" y="1523880"/>
            <a:ext cx="79246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n-Differential Misclassificatio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rrors in classification of one variable (E)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depend on the level of the other variable (D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DM Errors :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fferential Misclassificatio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rrors in classification of one variable (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end on the level of the other variable (D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M Errors: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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DM ERR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752480"/>
            <a:ext cx="77724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posure Specific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E is not accurately asses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acceptability Bi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E is a behaviour or characteristic which subjects are inclined to under-rep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533520" y="533520"/>
            <a:ext cx="7924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M ERR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990720"/>
            <a:ext cx="7848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all (Anamnestic Bi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pathic B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view B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38080" y="28195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3505320"/>
            <a:ext cx="78483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990720"/>
            <a:ext cx="7848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304920"/>
            <a:ext cx="7696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FOUNDING BI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1447920"/>
            <a:ext cx="78487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study effect is mixed with another effec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ounde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aneous to E-D assoc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ive of 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qually distributed between E grou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Alcohol &amp; Oesophageal Can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ounder: Smo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 - CL - MG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: Design /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371600"/>
            <a:ext cx="78487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to carry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(less time consum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exp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ful for rare dis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ful for diseases with a long latent inter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risk to su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exposures can be stud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attrition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7621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1447920"/>
            <a:ext cx="78487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1371600"/>
            <a:ext cx="78487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sceptible for bi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on of controls difficu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idence (thereby RR) can not be calcu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disease is relatively common (&gt; 5 to 10%), OR may not be reliable estimate of R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possible effects of exposure can not be stud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 Vs Assoc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457200"/>
            <a:ext cx="7696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SADVANT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447920"/>
            <a:ext cx="78487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ase-control studies in hierarchy of desig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CT: Methodological Standard of Excell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-Co - Not only SIMPLE to perform but some times the ONLY approach to solve a problem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ilosophically no design is ‘Gold Standard’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 strengths and weaknesses 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ppropriate study design to address your RQ……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533520" y="609480"/>
            <a:ext cx="792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1523880"/>
            <a:ext cx="79246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ng Vaccine Effective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s of Treatment &amp; Program Effic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 of Scre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break Investig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rect Estimation in Demogra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tic Epidem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pational Health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ive Mode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rogression of study design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nical resear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solated Case Repor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ase Seri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ross-Sectional stud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ase-Control Stud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hort Stud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andomized Clinical Tria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eta-Analysi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ts val="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01:39:07Z</dcterms:created>
  <dc:creator> </dc:creator>
  <dc:description/>
  <dc:language>en-US</dc:language>
  <cp:lastModifiedBy>Pradeep Deshmukh</cp:lastModifiedBy>
  <dcterms:modified xsi:type="dcterms:W3CDTF">2008-12-03T03:01:09Z</dcterms:modified>
  <cp:revision>73</cp:revision>
  <dc:subject/>
  <dc:title>Slide 1</dc:title>
</cp:coreProperties>
</file>